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7DC-F635-4418-9667-19B10641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BA4-2D0F-4BDC-AF19-C8CA0B62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80E-78BB-4832-AEBA-183BABA8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41B-B583-4C59-8F6D-85335218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0B4C-E6DA-49D4-8784-5191CF06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3AA2-2641-40DE-98BA-7913F32E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26C-DC77-46C8-9BEE-B12860D1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1A82-55EA-4A4F-9570-9C80D277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148E-F671-413B-B8E6-DF6504F2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ADE9-8730-40BF-A6BA-61225CF9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01BA-F35B-4985-B81C-E68DBE1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294-856C-4D60-8323-A1907ED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1E03-7107-4191-A837-9FEADCDF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2CD1-168E-4DF2-83E0-E301D671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C0B7-C4AE-4FA5-A729-4A887749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A227-1FE0-4531-9E8C-300D095D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97C4-D07A-4313-AB54-2A01943D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B84-F2FB-4DAC-81C5-25720E9C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E0A-F2E8-4327-959C-1149872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665E-C3BE-4DBF-8E30-6785A1AC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66E-2F11-4133-A7B8-5B0D6EC4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C72-9DD8-43D0-BB99-12D7659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5D8-61AA-483D-8D38-8813862C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122-667D-4698-B2D2-A65257C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78BA-8425-474D-9594-F7B40A5F2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205E-3295-4850-8A29-6990547A7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29714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“</a:t>
            </a: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Sir, We Would See Jesus”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71440" y="41144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Quarter 9, Lesson 4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ages 16-2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uke 2:41-52; Matt. 3:1-17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esus’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The Baptism of Jesus – Matt.3:13-1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Jesus is now 30 years ol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John knew Jesus was p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Hesitation to Baptize Jes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Obeying Jesus’ re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o fulfill all righteousnes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The Divine Seal of Approv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After Jesus’ baptis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he Spirit came down in dove for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he voice: “This is My Son…..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Jesus was immersed in the Jordan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pic>
        <p:nvPicPr>
          <p:cNvPr id="112" name="" descr="Israel: The Jordan River Below Kinneret"/>
          <p:cNvPicPr/>
          <p:nvPr/>
        </p:nvPicPr>
        <p:blipFill>
          <a:blip r:embed="rId2"/>
          <a:stretch/>
        </p:blipFill>
        <p:spPr>
          <a:xfrm>
            <a:off x="533520" y="1447920"/>
            <a:ext cx="3681360" cy="2417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Jordan River, baptism, jesus, IPIX, Bible,  free picture"/>
          <p:cNvPicPr/>
          <p:nvPr/>
        </p:nvPicPr>
        <p:blipFill>
          <a:blip r:embed="rId3"/>
          <a:stretch/>
        </p:blipFill>
        <p:spPr>
          <a:xfrm>
            <a:off x="4267080" y="1447920"/>
            <a:ext cx="4267440" cy="2852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990720" y="4419720"/>
            <a:ext cx="3076560" cy="16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ke note tha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esus went to th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er. The wa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s not brough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o Him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5520" y="4343400"/>
            <a:ext cx="2438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 went dow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to the water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e came u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ut of th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er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118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53040" y="1219320"/>
            <a:ext cx="3990960" cy="5132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172200" y="152280"/>
            <a:ext cx="1509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der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tell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29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5081760" cy="387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47920" y="3962520"/>
            <a:ext cx="304560" cy="228600"/>
          </a:xfrm>
          <a:prstGeom prst="ellipse">
            <a:avLst/>
          </a:prstGeom>
          <a:noFill/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590920"/>
            <a:ext cx="381240" cy="304560"/>
          </a:xfrm>
          <a:prstGeom prst="ellipse">
            <a:avLst/>
          </a:prstGeom>
          <a:noFill/>
          <a:ln w="38160">
            <a:solidFill>
              <a:srgbClr val="f0e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752480" y="2819520"/>
            <a:ext cx="2286000" cy="12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657600" y="35575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848720" y="3505320"/>
            <a:ext cx="1295280" cy="33526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924680" y="4267080"/>
            <a:ext cx="10479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su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th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mpl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t ag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Jesus in the Temple at Age 12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Luke 2:41-5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The “Bar Mizvah” age of accepting accountability to Go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is heart was at God’s hou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is parents did not realize how connected Jesus w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hey lost their connection to Jes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They returned to find him “in His Father’s House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He remained subject to God and His par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Growing up in Nazareth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Luke 2:5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He grows i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Height (physic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Wisdom (ment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avor with God (spiritu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Favor with man (social maturit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ohn’s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0e5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Why John Came – Matt.3:1-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Isaiah foretold his mission (Isa.40:3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The Jews needed to rep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Repentance is necessary to prepare for the kingdom of Go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People needed to get ready to receive the arrival of the K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ohn’s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Why John Came – Matt.3:1-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John’s Work – Matt.3:4-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Preach what the religious leaders had been unwilling to preac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Alert people to the religious poison that might hinder acceptance of God’s tru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Draw people out from under poisonous doctri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Get people prepared for the k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Century Gothic"/>
              </a:rPr>
              <a:t>The Beginning of John’s Ministry</a:t>
            </a:r>
            <a:endParaRPr b="0" lang="en-US" sz="3600" spc="-1" strike="noStrike">
              <a:solidFill>
                <a:srgbClr val="e3ebf1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Why John Came – Matt.3:1-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500"/>
                </a:solidFill>
                <a:latin typeface="Century Gothic"/>
              </a:rPr>
              <a:t>John’s Work – Matt.3:4-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500"/>
                </a:solidFill>
                <a:latin typeface="Century Gothic"/>
              </a:rPr>
              <a:t>Baptism of repent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Was “for remission of sins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0e5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e500"/>
                </a:solidFill>
                <a:latin typeface="Century Gothic"/>
              </a:rPr>
              <a:t>This looked forward to the ultimate sacrifice that would provide the basis of all forgiveness past and pres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sh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34120" y="0"/>
            <a:ext cx="380988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10080" y="380880"/>
            <a:ext cx="34959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cate the following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5880" y="1447920"/>
            <a:ext cx="21052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erusal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ll countr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f Jude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thlehe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rdan Rive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6:20:51Z</dcterms:created>
  <dc:creator>Terry W. Benton</dc:creator>
  <dc:description/>
  <dc:language>en-US</dc:language>
  <cp:lastModifiedBy>Frank D Vines</cp:lastModifiedBy>
  <dcterms:modified xsi:type="dcterms:W3CDTF">2006-07-18T05:36:07Z</dcterms:modified>
  <cp:revision>3</cp:revision>
  <dc:subject/>
  <dc:title>“Sir, We Would See Jesus”</dc:title>
</cp:coreProperties>
</file>